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79D4-0E1C-4E59-ADC9-2B8F54A19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DC80-1EF0-4D59-9306-647D52C02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0593-ED6B-4E67-A431-695AB0FC5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DC7-7EAC-43F3-B7F2-1F96912B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095-F36A-4776-B990-9187DC79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2E6-CF92-4C11-9151-918B428E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2DAF-8FFA-4D74-8F1E-0432A1BA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DE7-89A9-4784-80B4-1C1A944E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EED-D4B9-4786-A555-EC3FE624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41BE-AC8A-446F-A3BB-60BDEE34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F76-7B2D-46B4-93F4-A9972CCF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202-4794-46EC-95BC-389CEDDC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CAC-7EDC-4C15-96C6-A2E1006D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448-9843-449A-9717-3E3CF161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C49-8ED8-4C4D-9E19-11F2AE05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F007-8516-4EC9-97E9-BED571D64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jectory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8219-6712-48BD-B191-08625621D1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celeration profile for 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ddot=-180+360*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ddot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’Acceleration(deg/s2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1446120" y="2681280"/>
                <a:ext cx="17146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Picture 6" descr="untitled"/>
          <p:cNvPicPr/>
          <p:nvPr/>
        </p:nvPicPr>
        <p:blipFill>
          <a:blip r:embed="rId1"/>
          <a:stretch/>
        </p:blipFill>
        <p:spPr>
          <a:xfrm>
            <a:off x="4038480" y="2666880"/>
            <a:ext cx="4529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HW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 single link robot with a rotary joint is at </a:t>
            </a:r>
            <a:r>
              <a:rPr b="1" i="1" lang="az-Cyrl-AZ" sz="28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1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ْ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grees. It is desired to move the joint in a smooth manner to </a:t>
            </a:r>
            <a:r>
              <a:rPr b="1" i="1" lang="az-Cyrl-AZ" sz="28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7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ْ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3 sec. Find the coefficeints of a cubic to bring the manipulator to rest at the go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286000" y="3962520"/>
                <a:ext cx="3200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617400" y="4724280"/>
                <a:ext cx="6891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deg/sec,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sk is to take the end point of the RR robot from (0.5, 0.0, 0.0) to (0.5, 0.3, 0.0) in the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me in a period of 5 seconds.  Assume the robot is at rest at the starting point and should come to come to a complete stop at the final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Given the 6 constraints: (n=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990720" y="2362320"/>
                <a:ext cx="6629400" cy="25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eqAr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start time      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end time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initial position , velocity and acceleration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final position , velocity and accelera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Quintic Traj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6 coefficients (6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fine the trajectory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q(t)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o be a polynomial of degree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2286000" y="3583080"/>
                <a:ext cx="32004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1994040" y="4724280"/>
                <a:ext cx="3708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2033640" y="5638680"/>
                <a:ext cx="3352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autation of th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eff to satify the const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0"/>
              <p:cNvSpPr txBox="1"/>
              <p:nvPr/>
            </p:nvSpPr>
            <p:spPr>
              <a:xfrm>
                <a:off x="1143000" y="2743200"/>
                <a:ext cx="4419720" cy="28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six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914400" y="2209680"/>
                <a:ext cx="6524640" cy="39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5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six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779400" y="2435400"/>
                <a:ext cx="6794640" cy="34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Linear segments with parabolic b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 want the middle part of the trajectory to have a constant velocity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mp up to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seg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mp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untitled"/>
          <p:cNvPicPr/>
          <p:nvPr/>
        </p:nvPicPr>
        <p:blipFill>
          <a:blip r:embed="rId1"/>
          <a:stretch/>
        </p:blipFill>
        <p:spPr>
          <a:xfrm>
            <a:off x="3962520" y="2819520"/>
            <a:ext cx="48196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jectory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rajectory is a function of tim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) s.t. 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=q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nd 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=q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: time taken to execute the traje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int to point motion: plan 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jectory from the initial configurati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final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In some cases, there may be constraints (for example: if the robot must begin and end with zero veloc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e the trajectory of polynomial of degre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if you have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nstra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 (1):Given the 4 constraints: (n=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295280" y="3657600"/>
                <a:ext cx="472464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eqAr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start time      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end time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the initial position and velocity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final position and velocit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Cubic Traj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 coefficients (4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fine the trajectory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q(t)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o be a polynomial of degree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2286000" y="3505320"/>
                <a:ext cx="3200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7"/>
              <p:cNvSpPr txBox="1"/>
              <p:nvPr/>
            </p:nvSpPr>
            <p:spPr>
              <a:xfrm>
                <a:off x="2317680" y="4952880"/>
                <a:ext cx="23734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uation of th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eff to satify the const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2895480" y="2133720"/>
                <a:ext cx="18288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1157400" y="4800600"/>
                <a:ext cx="51116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2057400" y="4114800"/>
                <a:ext cx="25909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1"/>
              <p:cNvSpPr txBox="1"/>
              <p:nvPr/>
            </p:nvSpPr>
            <p:spPr>
              <a:xfrm>
                <a:off x="1295280" y="2743200"/>
                <a:ext cx="490068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four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1219320" y="2819520"/>
                <a:ext cx="4510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3</m:t>
                              </m:r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3</m:t>
                              </m:r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990720" y="3200400"/>
                <a:ext cx="172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533520" y="2286000"/>
                <a:ext cx="7059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deg/sec,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3962520" y="3200400"/>
                <a:ext cx="18288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7"/>
              <p:cNvSpPr txBox="1"/>
              <p:nvPr/>
            </p:nvSpPr>
            <p:spPr>
              <a:xfrm>
                <a:off x="914400" y="4343400"/>
                <a:ext cx="2158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1143000" y="4876920"/>
                <a:ext cx="31575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=10-90*t^2+60*t^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'Angle(deg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1447920" y="2362320"/>
                <a:ext cx="20574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0" name="Picture 5" descr="untitled"/>
          <p:cNvPicPr/>
          <p:nvPr/>
        </p:nvPicPr>
        <p:blipFill>
          <a:blip r:embed="rId1"/>
          <a:stretch/>
        </p:blipFill>
        <p:spPr>
          <a:xfrm>
            <a:off x="4038480" y="2666880"/>
            <a:ext cx="45435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elocity profile for 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dot=-180*t+180*t^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dot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’velocity(deg/s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1527120" y="2362320"/>
                <a:ext cx="1898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4" name="Picture 8" descr="untitled"/>
          <p:cNvPicPr/>
          <p:nvPr/>
        </p:nvPicPr>
        <p:blipFill>
          <a:blip r:embed="rId1"/>
          <a:stretch/>
        </p:blipFill>
        <p:spPr>
          <a:xfrm>
            <a:off x="3962520" y="2666880"/>
            <a:ext cx="45576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yssam</cp:lastModifiedBy>
  <dcterms:modified xsi:type="dcterms:W3CDTF">2008-04-13T00:17:2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